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274-58C8-4A7A-B065-E77BD2F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A76-0247-44C7-9060-7B243797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527-89E8-4747-B338-814A32A6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A8B-EA33-4210-8835-B8E96ECC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709-9D3B-4B60-B2C7-E6FB0C2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2A3-ACEE-4AD6-9D55-BC7B0EDF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3EF-53A8-497C-A9F0-822BF77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123-68B9-4C3D-922B-8FC8B23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504-03F8-4B00-B2D1-FA36882E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8FB-9AE1-4269-AA6C-38F2301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8A6-C2BE-4F65-ADE7-A2822B4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3E3-F447-4AC4-8735-DA288BA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6E80-6955-4C6C-82CE-2D903E08F5C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paa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Overview of State Repor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Presenter: Donna Re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Farmington Public Scho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Student Information Technic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January 23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Mid-Year TSDL Submiss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s submission is required to report course data for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ll migrant-eligible student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Other students are optional for mid-year on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owever, this is a great time to submit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entury Gothic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semester or trimester course data and gra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ubmission must be certified by Feb. 26,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 located on 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ectronic version of the former paper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ue in July but can be updated through out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s each building and/or district including “forgiven”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ercentage Attendance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quired to give this to the auditor’s to prove that each day of school was above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ran at any time of the year to double check attendance for any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cated in MiStar under State Reporting-RESA state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nter courses into CT Link Editor (located in Schedu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ystem, Utilities, Exec SP for necessary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these Stored Procedures are not step up for your MiStar contact OS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are a Wayne County MiStar user,  please contact Wayne 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cip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ipline is a required component of the MSDS col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must be entered correctly into MiStar for the data to be extrac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data is not completely entered, errors will appear on the MSDS Validation Detail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arbage in, garbage out – Be carefu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P students who have English/English listed for home and primary language will error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student is foreign born and receives LEP services, the Country of Birth and Year of Entry into US must be ent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CED codes needed  for every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cher PIC needed for every course – if course has same PIC listed multiple times, it will error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dditional 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mpaaa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chigan.gov/CE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sd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r the Macomb Error Che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we have enough state reports?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S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ral Collections – Fall, Spring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SDL – Mid-Year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RM – Section 25, Early R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Child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IC assignment an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fice of Civil Rights Compliance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Importance of the U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gathering begins with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aduation/Drop Out info is based on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UIC for MEAP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t “link” UIC’s if student has more tha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200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6353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SDS has three “general collec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ll, Spring and End of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the MSDS information for MEAP testing – ros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UIC is the connector for the MSDS and BAA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quality is important.  MSDS will error out with certain err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685800" y="228600"/>
          <a:ext cx="845820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45820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ction 25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w law - funding follows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tween Oct. 3 – Feb. 11 districts are allowed to request foundation allowance for students who move into their district AND were claimed elsewhere in Michigan for the fall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cumentation must be sent to your au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RM submission must be done for each student and must b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When you are selecting the MSDS – SRM extract, make sure you pick the correct on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34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S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Student Dat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d-year and summer sub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student, every teacher, every class, every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IC must be entered for every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course must have a SCED 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2:05:51Z</dcterms:created>
  <dc:creator>fps</dc:creator>
  <dc:description/>
  <dc:language>en-US</dc:language>
  <cp:lastModifiedBy>Farmington Public Schools</cp:lastModifiedBy>
  <dcterms:modified xsi:type="dcterms:W3CDTF">2014-01-22T14:03:29Z</dcterms:modified>
  <cp:revision>18</cp:revision>
  <dc:subject/>
  <dc:title>Woof Woof This stuff is boring</dc:title>
</cp:coreProperties>
</file>