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E7A-F492-4F12-88F4-FBCBDAFB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7A9-4DB8-4A99-98D0-61DD6DBF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9B5-C42C-4622-99D9-69262117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3D0-9AA2-4511-9F7A-3DA44AD5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EFB-2B50-4A85-87A2-4A1D886D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318-F6A8-4945-97A8-2127EBC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FD9-6492-4EDB-8E16-1095F7FF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0F8-9248-4519-A97F-661A546B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9D1-B1AC-4D53-B187-2AA7470C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87D-CAFC-40DA-9E28-6726B48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947-101D-46CE-853E-833E293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224-A41B-4527-9170-1FF069F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018C-84E2-4856-9DE8-D459585D0650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paa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Overview of State Repor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Presenter: Donna Re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Farmington Public Schoo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Student Information Technic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Gothic"/>
              </a:rPr>
              <a:t>January 23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Mid-Year TSDL Submiss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s submission is required to report course data for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ll migrant-eligible student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Other students are optional for mid-year on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However, this is a great time to submit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entury Gothic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semester or trimester course data and gra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ubmission must be certified by Feb. 26, 20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ays and Hours Repor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port located on 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lectronic version of the former paper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ue in July but can be updated through out the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ports each building and/or district including “forgiven”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Percentage Attendance Re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quired to give this to the auditor’s to prove that each day of school was above 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be ran at any time of the year to double check attendance for any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ocated in MiStar under State Reporting-RESA state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TE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nter courses into CT Link Editor (located in Schedul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ystem, Utilities, Exec SP for necessary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these Stored Procedures are not step up for your MiStar contact OS help de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you are a Wayne County MiStar user,  please contact Wayne R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cipli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scipline is a required component of the MSDS col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must be entered correctly into MiStar for the data to be extracted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f data is not completely entered, errors will appear on the MSDS Validation Detail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arbage in, garbage out – Be carefu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P students who have English/English listed for home and primary language will error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student is foreign born and receives LEP services, the Country of Birth and Year of Entry into US must be ente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CED codes needed  for every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cher PIC needed for every course – if course has same PIC listed multiple times, it will error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dditional Resourc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mpaaa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ww.michigan.gov/CE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ww.misd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For the Macomb Error Check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 we have enough state reports?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S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neral Collections – Fall, Spring, E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SDL – Mid-Year, EO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RM – Section 25, Early Ro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rly Childh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IC assignment and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ays and Hour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TE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ffice of Civil Rights Compliance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Importance of the U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gathering begins with U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aduation/Drop Out info is based on U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A uses UIC for MEAP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t “link” UIC’s if student has more tha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200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6353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S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SDS has three “general collec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ll, Spring and End of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A uses the MSDS information for MEAP testing – rost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udent UIC is the connector for the MSDS and BAA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ta quality is important.  MSDS will error out with certain err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3"/>
          <p:cNvGraphicFramePr/>
          <p:nvPr/>
        </p:nvGraphicFramePr>
        <p:xfrm>
          <a:off x="685800" y="228600"/>
          <a:ext cx="8458200" cy="65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45820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ction 25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w law - funding follows 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tween Oct. 3 – Feb. 11 districts are allowed to request foundation allowance for students who move into their district AND were claimed elsewhere in Michigan for the fall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cumentation must be sent to your au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RM submission must be done for each student and must be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When you are selecting the MSDS – SRM extract, make sure you pick the correct on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3342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SD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Student Data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d-year and summer sub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ry student, every teacher, every class, every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PIC must be entered for every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ry course must have a SCED en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2:05:51Z</dcterms:created>
  <dc:creator>fps</dc:creator>
  <dc:description/>
  <dc:language>en-US</dc:language>
  <cp:lastModifiedBy>Farmington Public Schools</cp:lastModifiedBy>
  <dcterms:modified xsi:type="dcterms:W3CDTF">2014-01-22T14:03:29Z</dcterms:modified>
  <cp:revision>18</cp:revision>
  <dc:subject/>
  <dc:title>Woof Woof This stuff is boring</dc:title>
</cp:coreProperties>
</file>